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9A88-9EB6-42EC-8AC5-89963BA2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B853-27E7-4C25-82B8-8C90263D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E75F-6F6B-4A4A-9ADF-91C0ECDD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1321-40FD-4C58-A5F0-EF76A9A9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444-7C19-4985-8339-0C4607AC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D081-D1A3-4D87-82ED-09C1B25E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8CA9-79EA-4A4A-A065-10D320DF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890-C4C5-4B5F-AD96-C34BBF03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2DDA-707F-45BD-A400-660D6B3A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127-39AF-4B83-B114-3A40D026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BD3A-D1A1-441E-B5AE-161A2981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0574-13A8-4196-B3AD-209132C4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BE5A-D5A2-4ECB-A0F1-A607EE594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en.wikipedia.org/wiki/File:Herbert_Hoover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en.wikipedia.org/wiki/File:FDR_in_1933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mbw"/>
          <p:cNvPicPr/>
          <p:nvPr/>
        </p:nvPicPr>
        <p:blipFill>
          <a:blip r:embed="rId1"/>
          <a:stretch/>
        </p:blipFill>
        <p:spPr>
          <a:xfrm>
            <a:off x="539640" y="493560"/>
            <a:ext cx="806472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PoliticalCartoon8"/>
          <p:cNvPicPr/>
          <p:nvPr/>
        </p:nvPicPr>
        <p:blipFill>
          <a:blip r:embed="rId1"/>
          <a:stretch/>
        </p:blipFill>
        <p:spPr>
          <a:xfrm>
            <a:off x="0" y="1197000"/>
            <a:ext cx="4167360" cy="5661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fdr-his-baby-now"/>
          <p:cNvPicPr/>
          <p:nvPr/>
        </p:nvPicPr>
        <p:blipFill>
          <a:blip r:embed="rId2"/>
          <a:stretch/>
        </p:blipFill>
        <p:spPr>
          <a:xfrm>
            <a:off x="4384800" y="1197000"/>
            <a:ext cx="4759200" cy="5661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245px-Herbert_Hoov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0"/>
            <a:ext cx="19512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CartoonFrom1934"/>
          <p:cNvPicPr/>
          <p:nvPr/>
        </p:nvPicPr>
        <p:blipFill>
          <a:blip r:embed="rId1"/>
          <a:stretch/>
        </p:blipFill>
        <p:spPr>
          <a:xfrm>
            <a:off x="4838760" y="1552680"/>
            <a:ext cx="4305240" cy="5305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fdr-march-32"/>
          <p:cNvPicPr/>
          <p:nvPr/>
        </p:nvPicPr>
        <p:blipFill>
          <a:blip r:embed="rId2"/>
          <a:stretch/>
        </p:blipFill>
        <p:spPr>
          <a:xfrm>
            <a:off x="0" y="1557360"/>
            <a:ext cx="4314960" cy="5300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200px-FDR_in_193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0"/>
            <a:ext cx="19047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igs-at-the-trough1"/>
          <p:cNvPicPr/>
          <p:nvPr/>
        </p:nvPicPr>
        <p:blipFill>
          <a:blip r:embed="rId1"/>
          <a:stretch/>
        </p:blipFill>
        <p:spPr>
          <a:xfrm>
            <a:off x="179280" y="404640"/>
            <a:ext cx="4486320" cy="6121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FDR-Press-release-image"/>
          <p:cNvPicPr/>
          <p:nvPr/>
        </p:nvPicPr>
        <p:blipFill>
          <a:blip r:embed="rId2"/>
          <a:stretch/>
        </p:blipFill>
        <p:spPr>
          <a:xfrm>
            <a:off x="4791240" y="404640"/>
            <a:ext cx="43527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nd! Spend! Spend! – Roosevelt’s New De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deficits to prevent starvation and dire w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opened the banks and ended the “noble experim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00 days, got 15 acts through Congress: emergency relief, mortgage relief , farm credit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alued the dollar to raise prices….all gold must be turned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C -  Civilian Conservation Corps( 3 million 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WA – Civil Works Administration( $900 million in w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RA – National Recovery Administration ( stabilize business and indust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ak the Rich” tax (75%) , unemployment and old age insurance , public welfare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WWII would be bring full production and full employment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10602cs"/>
          <p:cNvPicPr/>
          <p:nvPr/>
        </p:nvPicPr>
        <p:blipFill>
          <a:blip r:embed="rId1"/>
          <a:stretch/>
        </p:blipFill>
        <p:spPr>
          <a:xfrm>
            <a:off x="0" y="404640"/>
            <a:ext cx="4321080" cy="612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10519cs"/>
          <p:cNvPicPr/>
          <p:nvPr/>
        </p:nvPicPr>
        <p:blipFill>
          <a:blip r:embed="rId2"/>
          <a:stretch/>
        </p:blipFill>
        <p:spPr>
          <a:xfrm>
            <a:off x="4419720" y="836640"/>
            <a:ext cx="47242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seussappeasement"/>
          <p:cNvPicPr/>
          <p:nvPr/>
        </p:nvPicPr>
        <p:blipFill>
          <a:blip r:embed="rId1"/>
          <a:stretch/>
        </p:blipFill>
        <p:spPr>
          <a:xfrm>
            <a:off x="1476360" y="766800"/>
            <a:ext cx="6264360" cy="53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Hitler%20Cartoon"/>
          <p:cNvPicPr/>
          <p:nvPr/>
        </p:nvPicPr>
        <p:blipFill>
          <a:blip r:embed="rId1"/>
          <a:stretch/>
        </p:blipFill>
        <p:spPr>
          <a:xfrm>
            <a:off x="826920" y="682560"/>
            <a:ext cx="756144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01:56:54Z</dcterms:created>
  <dc:creator>User</dc:creator>
  <dc:description/>
  <dc:language>en-US</dc:language>
  <cp:lastModifiedBy>ladmin</cp:lastModifiedBy>
  <dcterms:modified xsi:type="dcterms:W3CDTF">2011-01-12T13:24:55Z</dcterms:modified>
  <cp:revision>2</cp:revision>
  <dc:subject/>
  <dc:title>Slide 1</dc:title>
</cp:coreProperties>
</file>